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A85-5A90-4FB4-847B-BDF7EDE2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CC2-902F-4F3A-A33C-8E8DB2FC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326-F5EA-4D25-9878-674BCDFC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302-3A87-46D6-BDEC-84869DDD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01B1-4A58-4E16-88A6-C76F8639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BE46-1A05-4288-82C9-702B8687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4441-106B-43E3-B0DE-922E8141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F979-EA84-430F-B851-38216B18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2B9C-5D65-4873-A87B-E9D8FC5F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5D42-EC44-4F7C-9E9F-EFA8BD50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A388-0E2A-40D2-87D4-39DD8E9F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FB0-A425-4A8B-8C2B-3D55FE3F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2A2E-8C53-4739-A442-C033295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68D2-77AB-433F-8C63-3655CB35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3E87-B637-4038-9CED-8DA49703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72F6-B79B-4779-BA19-7162AC7F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A0A9-C491-4949-9518-752D9A4B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A10-945A-4DAB-A857-665962B2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D7B-DD55-465B-85D2-16C8400C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FFD-3E4B-45AF-B084-5F81B8B0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239-2AAF-4A87-A4BF-2DFDEABC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BEF-F26C-4685-A96B-712FD927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CBA-FDEE-4544-9EA5-8004AD2B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1CA-56C3-4E94-B81B-6D4ABEB4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BE55-2EC0-49BA-89B0-FEEC685D626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85C2-9BEF-438F-924D-85BE18B52C0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Podcasting </a:t>
            </a:r>
            <a:br>
              <a:rPr sz="4400"/>
            </a:b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Across the Curriculum</a:t>
            </a:r>
            <a:br>
              <a:rPr sz="4400"/>
            </a:b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MANACE </a:t>
            </a:r>
            <a:br>
              <a:rPr sz="4400"/>
            </a:b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AGM Presen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Prese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John Ev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June 5, 200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1371600"/>
            <a:ext cx="7848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Promotes good writing, speaking, and communica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Good form of assess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Multi-sens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Another media to communicate wi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Students are using langu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Authentic activity going beyond the wal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Good motiva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Application of technology (Warlick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609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Why Podcasting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295280"/>
            <a:ext cx="80773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NewRomanPS-BoldMT"/>
              </a:rPr>
              <a:t>Curriculum Applications of Podcast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reading fluen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reading, speaking, writing, and listening skil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acquire in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integrate/infuse techn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technology skills and appl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1523880"/>
            <a:ext cx="73911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learn new ways to communicate knowled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positive academic self-c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sense of audience and purpose when reading, writing, and speak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a student ownership of langu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encourage active participation and learner-centered foc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74800" y="457200"/>
            <a:ext cx="85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NewRomanPS-BoldMT"/>
              </a:rPr>
              <a:t>Curriculum Applications of Podcasts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adio%20stations-0_1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7461360" cy="4935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71600" y="62485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f604"/>
                </a:solidFill>
                <a:latin typeface="Times New Roman"/>
              </a:rPr>
              <a:t>http://chatt.hdsb.ca/~magps/boylit/Podcasting%20in%20Educ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f604"/>
                </a:solidFill>
                <a:latin typeface="Times New Roman"/>
              </a:rPr>
              <a:t>K –12 Podcasting Ideas - Radio St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Podcasting in the </a:t>
            </a:r>
            <a:br>
              <a:rPr sz="3600"/>
            </a:b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Literacy with ICT Continuum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3436920" cy="437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3481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f604"/>
                </a:solidFill>
                <a:latin typeface="Times New Roman"/>
              </a:rPr>
              <a:t>Podcatching </a:t>
            </a:r>
            <a:br>
              <a:rPr sz="6000"/>
            </a:br>
            <a:r>
              <a:rPr b="1" lang="en-US" sz="6000" spc="-1" strike="noStrike">
                <a:solidFill>
                  <a:srgbClr val="eaf604"/>
                </a:solidFill>
                <a:latin typeface="Times New Roman"/>
              </a:rPr>
              <a:t>in </a:t>
            </a:r>
            <a:br>
              <a:rPr sz="6000"/>
            </a:br>
            <a:r>
              <a:rPr b="1" lang="en-US" sz="6000" spc="-1" strike="noStrike">
                <a:solidFill>
                  <a:srgbClr val="eaf604"/>
                </a:solidFill>
                <a:latin typeface="Times New Roman"/>
              </a:rPr>
              <a:t>Educa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057400" y="457200"/>
            <a:ext cx="6858000" cy="59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Many Educational Podcasts can fit into your existing curricu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Learn a language – French, Itali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Listen to a story – Aesop’s Fables, Sherlock Holmes, StoryN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Ed Tech – SmartBoa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Canadian Events – CBC Podcas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Current Events – 60 Minute Podcast, CN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Free Professional Develop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eaf60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Moving at the Speed of Creativity – Wes Fry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eaf60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Connect Learning – David Warli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eaf60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edublogs.com – Ewan McIntos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066680" y="663480"/>
          <a:ext cx="7920000" cy="555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63480"/>
                    <a:ext cx="7920000" cy="555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990720"/>
            <a:ext cx="731520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History of Podcasting </a:t>
            </a:r>
            <a:r>
              <a:rPr b="1" lang="en-US" sz="1400" spc="-1" strike="noStrike">
                <a:solidFill>
                  <a:srgbClr val="eaf604"/>
                </a:solidFill>
                <a:latin typeface="Trebuchet MS"/>
              </a:rPr>
              <a:t>from Kathy Schrock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1 Adam Curry, Tristan Louis, Dave Winer Collaborated using RSS techn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3 Stephen Downes used RSS to aggregate audio 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4 Articles about podcasts available onl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Over 2 million Google searches on the wo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5 Apple creates a podcast directory in iTu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Many podcast aggregator sites and directories appe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09680" y="45720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f604"/>
                </a:solidFill>
                <a:latin typeface="Times New Roman"/>
              </a:rPr>
              <a:t>The Penny Pincher’s Podcasting Guide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Take a summer ManACE Course to learn ho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urchase low cost interface tools to get started– microphones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Use free tools from the Internet to create your podcast such as Audac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Use a free site such as Podomatic to host your podca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Spread the word about your podcast using a Blog or Wiki (both fre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28800" y="685800"/>
            <a:ext cx="647712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f604"/>
                </a:solidFill>
                <a:latin typeface="Times New Roman"/>
              </a:rPr>
              <a:t>In conclus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odcasting fits in many curricular areas at many level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odcasting is easy and requires minimum skills … learning the editing software is the most difficult part (and there’s a summer ManACE course to teach you tha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odcasting is fun, motivating and contagious. Once the students start they’ll want to do mor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If its worth saying once, it’s worth saying again with podcastin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685800"/>
            <a:ext cx="701028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f604"/>
                </a:solidFill>
                <a:latin typeface="Trebuchet MS"/>
              </a:rPr>
              <a:t>Creating a Podcas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Items you need for podcas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icroph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Computer</a:t>
            </a: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or digital recor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Audio-editing 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Podsafe music or soun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3880" y="1143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Microphon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2300400" cy="2001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05320" y="4343400"/>
            <a:ext cx="18460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172200" y="4114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419720" y="380880"/>
            <a:ext cx="1038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8380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Computer or Digital Record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212544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2447640" cy="2184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5812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00200" y="609480"/>
            <a:ext cx="63244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f604"/>
                </a:solidFill>
                <a:latin typeface="Times New Roman"/>
              </a:rPr>
              <a:t>Podsafe Music Sourc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CTC Music Mixer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Magnatune.com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Jamend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Wikimed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457200"/>
            <a:ext cx="72392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f604"/>
                </a:solidFill>
                <a:latin typeface="Trebuchet MS"/>
              </a:rPr>
              <a:t>Audio Editing Software (PC and Ma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eaf604"/>
                </a:solidFill>
                <a:latin typeface="Trebuchet MS"/>
              </a:rPr>
              <a:t>Audacity -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rebuchet MS"/>
                <a:hlinkClick r:id="rId1"/>
              </a:rPr>
              <a:t>http://audacity.sourceforge.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71629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3880" y="685800"/>
            <a:ext cx="7086600" cy="49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rebuchet MS"/>
              </a:rPr>
              <a:t>Steps in Creating a Podcas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f604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Record your podca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Move the audio file into an audio edi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Add the introduction and ending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Save file as an MP3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Upload to a Web site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Create your podcast newsfeed (blog site)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Add your podcast to directories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1752480"/>
            <a:ext cx="7315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f604"/>
                </a:solidFill>
                <a:latin typeface="Trebuchet MS"/>
              </a:rPr>
              <a:t>Why Use Podcas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f604"/>
                </a:solidFill>
                <a:latin typeface="Trebuchet MS"/>
              </a:rPr>
              <a:t>in the K-12 Classroo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0:56:34Z</dcterms:created>
  <dc:creator>Mr Evans</dc:creator>
  <dc:description/>
  <dc:language>en-US</dc:language>
  <cp:lastModifiedBy>Mr Evans</cp:lastModifiedBy>
  <dcterms:modified xsi:type="dcterms:W3CDTF">2007-06-05T19:17:19Z</dcterms:modified>
  <cp:revision>12</cp:revision>
  <dc:subject/>
  <dc:title>Podcasting  Across the Curriculum MANACE  AGM Presentation</dc:title>
</cp:coreProperties>
</file>