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052-B5BC-4D7A-AF63-15C8E578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84B-8B18-476C-AEE0-506A246C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53A-E904-4272-80B4-83B302D6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2D6-B7D7-4C42-B77C-4892B4B1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924-BF94-4DF1-A889-FC44BF74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E9E7-9F3A-4109-9826-D258B2C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F6EF-537D-4388-911B-92C36469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BF93-9873-4B94-B2E3-6A6DAD5C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0369-4216-4A42-8A0B-844FD91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5DC-A8EA-4690-B3C9-2F66064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F323-8C87-43F4-90B3-A3DD589E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ABE-1F9D-402C-82BC-1309D707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72DE-4505-47EE-AA1C-CBBED52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F9BF-DD7D-48CD-B843-0F425152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16F9-ADE1-47AD-AED1-ED007C7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3AD9-81C7-45AE-AEC9-A3EEBFCC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26E0-BA7D-4B51-B4EA-86B8104F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BA1-F009-4166-8883-7E966822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548-3AA3-46EB-AAA2-752255E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A47-E6F5-4083-9B16-9A8FAC5E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5E5-B22C-4987-8860-40D2BBAB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E09-B532-49F8-ACE2-246F66C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C3A-69EB-46C9-A048-8D889201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DB7-7896-4326-A36B-C854598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8BC-9170-41AA-A2F6-705370264CC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A677-23F9-430C-92FA-06B8659B654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Podcasting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cross the Curriculum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MANACE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GM Pres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ohn Ev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une 5, 200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371600"/>
            <a:ext cx="7848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Promotes good writing, speaking, and communica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form of assess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Multi-sens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nother media to communicate wi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Students are using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uthentic activity going beyond the wa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motiv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pplication of technology (Warlic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hy Podcasting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8077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 flu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, speaking, writing, and listening ski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acquire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integrate/infuse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technology skills and appl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523880"/>
            <a:ext cx="73911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learn new ways to communicate knowled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positive academic self-c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sense of audience and purpose when reading, writing, and spea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a student ownership of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encourage active participation and learner-centered foc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4800" y="457200"/>
            <a:ext cx="85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s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adio%20stations-0_1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461360" cy="493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2485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f604"/>
                </a:solidFill>
                <a:latin typeface="Times New Roman"/>
              </a:rPr>
              <a:t>http://chatt.hdsb.ca/~magps/boylit/Podcasting%20in%20Edu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K –12 Podcasting Ideas - Radio S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Podcasting in the </a:t>
            </a:r>
            <a:br>
              <a:rPr sz="3600"/>
            </a:b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Literacy with ICT Continuum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3436920" cy="43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81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Podcatching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in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Educ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7400" y="457200"/>
            <a:ext cx="685800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Many Educational Podcasts can fit into your existing curricu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earn a language – French, Itali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isten to a story – Aesop’s Fables, Sherlock Holmes, StoryN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Ed Tech – SmartBo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anadian Events – CBC Podcas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urrent Events – 60 Minute Podcast, CN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Free Professional Develop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Moving at the Speed of Creativity – Wes Fry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Connect Learning – David Warli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edublogs.com – Ewan McInto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6680" y="663480"/>
          <a:ext cx="792000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63480"/>
                    <a:ext cx="792000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990720"/>
            <a:ext cx="731520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History of Podcasting </a:t>
            </a:r>
            <a:r>
              <a:rPr b="1" lang="en-US" sz="1400" spc="-1" strike="noStrike">
                <a:solidFill>
                  <a:srgbClr val="eaf604"/>
                </a:solidFill>
                <a:latin typeface="Trebuchet MS"/>
              </a:rPr>
              <a:t>from Kathy Schroc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1 Adam Curry, Tristan Louis, Dave Winer Collaborated using RSS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3 Stephen Downes used RSS to aggregate audio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4 Articles about podcasts available on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Over 2 million Google searches on the 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5 Apple creates a podcast directory in iTu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any podcast aggregator sites and directories app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09680" y="4572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imes New Roman"/>
              </a:rPr>
              <a:t>The Penny Pincher’s Podcasting Guide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Take a summer ManACE Course to learn h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urchase low cost interface tools to get started– microphone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free tools from the Internet to create your podcast such as Audac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a free site such as Podomatic to host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Spread the word about your podcast using a Blog or Wiki (both fre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685800"/>
            <a:ext cx="647712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In conclus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fits in many curricular areas at many level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easy and requires minimum skills … learning the editing software is the most difficult part (and there’s a summer ManACE course to teach you tha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fun, motivating and contagious. Once the students start they’ll want to do mo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If its worth saying once, it’s worth saying again with podcast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685800"/>
            <a:ext cx="70102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604"/>
                </a:solidFill>
                <a:latin typeface="Trebuchet MS"/>
              </a:rPr>
              <a:t>Creating a Podca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tems you need for podcas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croph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Computer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or digital rec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Audio-editing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Podsafe music or sou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icrophon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2300400" cy="200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18460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419720" y="380880"/>
            <a:ext cx="1038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838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omputer or Digital Recor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212544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2447640" cy="2184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00200" y="609480"/>
            <a:ext cx="63244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f604"/>
                </a:solidFill>
                <a:latin typeface="Times New Roman"/>
              </a:rPr>
              <a:t>Podsafe Music Sourc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TC Music Mixer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agnatune.com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Jamend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ikime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457200"/>
            <a:ext cx="72392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io Editing Software (PC and M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acity -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rebuchet MS"/>
                <a:hlinkClick r:id="rId1"/>
              </a:rPr>
              <a:t>http://audacity.sourceforge.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71629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685800"/>
            <a:ext cx="708660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rebuchet MS"/>
              </a:rPr>
              <a:t>Steps in Creating a Podcas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f604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Record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ove the audio file into an audio edi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the introduction and end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Save file as an MP3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Upload to a Web site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Create your podcast newsfeed (blog site)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your podcast to directories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75248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Why Use Podcas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in the K-12 Classro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56:34Z</dcterms:created>
  <dc:creator>Mr Evans</dc:creator>
  <dc:description/>
  <dc:language>en-US</dc:language>
  <cp:lastModifiedBy>Mr Evans</cp:lastModifiedBy>
  <dcterms:modified xsi:type="dcterms:W3CDTF">2007-06-05T19:17:19Z</dcterms:modified>
  <cp:revision>12</cp:revision>
  <dc:subject/>
  <dc:title>Podcasting  Across the Curriculum MANACE  AGM Presentation</dc:title>
</cp:coreProperties>
</file>