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8CD2-CB56-441E-9251-4192FE171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0100-E00D-4E35-B108-DB537586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8FB2-9771-41B2-9C63-3AF721A66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07C4-FCAA-4F6C-849F-449817378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2852-065B-47C3-8C4D-55EC72F07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6170-14A4-47DB-952C-A23A016A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D0DA-7108-4005-8398-F1EF298B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2ABA-568F-4096-BBC0-FA941EF2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18C0-C862-45E4-B069-94B86A2E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8161-133F-4517-838E-455BA147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A290-357B-4B76-94E4-9437469C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6227-57C0-4A2E-B6A2-5AEF7F27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1DAF-5FA8-4C9D-94D3-D9E1201E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9E98-5146-488E-89C2-12D15271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4536-5272-4412-86D3-95B52F33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95FF-1CD4-42A0-978B-5AF05FCB2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0C7C-2BE5-4213-8548-9EE765049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BF80-98E6-4996-965C-04140D15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E033-5B3D-4AB9-9135-B5BA865C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2C54-6C2F-4DC4-B6F6-A4631FD4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4227-3D88-4A0D-92CC-201DDDA9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6178-09CE-4CD1-BB65-B0D34E41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1038-5E55-4CE2-BBEA-CCB96F3D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6530-D6C2-44E7-867B-180492B7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805B-DF2C-4788-84FB-40200527629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609E-B1E4-404C-9919-F55DAAA1C54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audacity.sourceforge.net/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f604"/>
                </a:solidFill>
                <a:latin typeface="Times New Roman"/>
              </a:rPr>
              <a:t>Podcasting </a:t>
            </a:r>
            <a:br>
              <a:rPr sz="4400"/>
            </a:br>
            <a:r>
              <a:rPr b="0" lang="en-US" sz="4400" spc="-1" strike="noStrike">
                <a:solidFill>
                  <a:srgbClr val="eaf604"/>
                </a:solidFill>
                <a:latin typeface="Times New Roman"/>
              </a:rPr>
              <a:t>Across the Curriculum</a:t>
            </a:r>
            <a:br>
              <a:rPr sz="4400"/>
            </a:br>
            <a:r>
              <a:rPr b="0" lang="en-US" sz="4400" spc="-1" strike="noStrike">
                <a:solidFill>
                  <a:srgbClr val="eaf604"/>
                </a:solidFill>
                <a:latin typeface="Times New Roman"/>
              </a:rPr>
              <a:t>MANACE </a:t>
            </a:r>
            <a:br>
              <a:rPr sz="4400"/>
            </a:br>
            <a:r>
              <a:rPr b="0" lang="en-US" sz="4400" spc="-1" strike="noStrike">
                <a:solidFill>
                  <a:srgbClr val="eaf604"/>
                </a:solidFill>
                <a:latin typeface="Times New Roman"/>
              </a:rPr>
              <a:t>AGM Present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f604"/>
                </a:solidFill>
                <a:latin typeface="Times New Roman"/>
              </a:rPr>
              <a:t>Presen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f604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f604"/>
                </a:solidFill>
                <a:latin typeface="Times New Roman"/>
              </a:rPr>
              <a:t>John Eva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f604"/>
                </a:solidFill>
                <a:latin typeface="Times New Roman"/>
              </a:rPr>
              <a:t>June 5, 200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95280" y="1371600"/>
            <a:ext cx="78487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Promotes good writing, speaking, and communicat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Good form of assessme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Multi-senso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Another media to communicate wit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Students are using langua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Authentic activity going beyond the wal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Good motiva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Application of technology (Warlick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6094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f604"/>
                </a:solidFill>
                <a:latin typeface="Times New Roman"/>
              </a:rPr>
              <a:t>Why Podcasting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66680" y="1295280"/>
            <a:ext cx="807732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f604"/>
                </a:solidFill>
                <a:latin typeface="TimesNewRomanPS-BoldMT"/>
              </a:rPr>
              <a:t>Curriculum Applications of Podcasting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To develop reading fluenc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To develop reading, speaking, writing, and listening skil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To acquire inform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To integrate/infuse technolog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To develop technology skills and applica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47920" y="1523880"/>
            <a:ext cx="73911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To learn new ways to communicate knowled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To develop positive academic self-concep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To develop sense of audience and purpose when reading, writing, and speak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To develop a student ownership of langua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To encourage active participation and learner-centered focu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74800" y="457200"/>
            <a:ext cx="85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f604"/>
                </a:solidFill>
                <a:latin typeface="TimesNewRomanPS-BoldMT"/>
              </a:rPr>
              <a:t>Curriculum Applications of Podcasts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radio%20stations-0_1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7461360" cy="4935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371600" y="624852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f604"/>
                </a:solidFill>
                <a:latin typeface="Times New Roman"/>
              </a:rPr>
              <a:t>http://chatt.hdsb.ca/~magps/boylit/Podcasting%20in%20Educatio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45720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f604"/>
                </a:solidFill>
                <a:latin typeface="Times New Roman"/>
              </a:rPr>
              <a:t>K –12 Podcasting Ideas - Radio Sta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f604"/>
                </a:solidFill>
                <a:latin typeface="Times New Roman"/>
              </a:rPr>
              <a:t>Podcasting in the </a:t>
            </a:r>
            <a:br>
              <a:rPr sz="3600"/>
            </a:br>
            <a:r>
              <a:rPr b="1" lang="en-US" sz="3600" spc="-1" strike="noStrike">
                <a:solidFill>
                  <a:srgbClr val="eaf604"/>
                </a:solidFill>
                <a:latin typeface="Times New Roman"/>
              </a:rPr>
              <a:t>Literacy with ICT Continuum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3436920" cy="4372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34120" y="1752480"/>
            <a:ext cx="3481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f604"/>
                </a:solidFill>
                <a:latin typeface="Times New Roman"/>
              </a:rPr>
              <a:t>Podcatching </a:t>
            </a:r>
            <a:br>
              <a:rPr sz="6000"/>
            </a:br>
            <a:r>
              <a:rPr b="1" lang="en-US" sz="6000" spc="-1" strike="noStrike">
                <a:solidFill>
                  <a:srgbClr val="eaf604"/>
                </a:solidFill>
                <a:latin typeface="Times New Roman"/>
              </a:rPr>
              <a:t>in </a:t>
            </a:r>
            <a:br>
              <a:rPr sz="6000"/>
            </a:br>
            <a:r>
              <a:rPr b="1" lang="en-US" sz="6000" spc="-1" strike="noStrike">
                <a:solidFill>
                  <a:srgbClr val="eaf604"/>
                </a:solidFill>
                <a:latin typeface="Times New Roman"/>
              </a:rPr>
              <a:t>Education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057400" y="457200"/>
            <a:ext cx="6858000" cy="59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Many Educational Podcasts can fit into your existing curricul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Learn a language – French, Itali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Listen to a story – Aesop’s Fables, Sherlock Holmes, StoryNo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Ed Tech – SmartBoard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Canadian Events – CBC Podcas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Current Events – 60 Minute Podcast, CN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Free Professional Developme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eaf60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eaf604"/>
                </a:solidFill>
                <a:latin typeface="Times New Roman"/>
              </a:rPr>
              <a:t>Moving at the Speed of Creativity – Wes Fry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eaf60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f604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eaf604"/>
                </a:solidFill>
                <a:latin typeface="Times New Roman"/>
              </a:rPr>
              <a:t>Connect Learning – David Warlick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eaf60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f604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eaf604"/>
                </a:solidFill>
                <a:latin typeface="Times New Roman"/>
              </a:rPr>
              <a:t>edublogs.com – Ewan McIntosh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066680" y="663480"/>
          <a:ext cx="7920000" cy="555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663480"/>
                    <a:ext cx="7920000" cy="555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7696080" cy="57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990720"/>
            <a:ext cx="7315200" cy="53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f604"/>
                </a:solidFill>
                <a:latin typeface="Trebuchet MS"/>
              </a:rPr>
              <a:t>History of Podcasting </a:t>
            </a:r>
            <a:r>
              <a:rPr b="1" lang="en-US" sz="1400" spc="-1" strike="noStrike">
                <a:solidFill>
                  <a:srgbClr val="eaf604"/>
                </a:solidFill>
                <a:latin typeface="Trebuchet MS"/>
              </a:rPr>
              <a:t>from Kathy Schrock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eaf604"/>
                </a:solidFill>
                <a:latin typeface="Trebuchet MS"/>
              </a:rPr>
              <a:t>2001 Adam Curry, Tristan Louis, Dave Winer Collaborated using RSS technolog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eaf604"/>
                </a:solidFill>
                <a:latin typeface="Trebuchet MS"/>
              </a:rPr>
              <a:t>2003 Stephen Downes used RSS to aggregate audio fi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eaf604"/>
                </a:solidFill>
                <a:latin typeface="Trebuchet MS"/>
              </a:rPr>
              <a:t>2004 Articles about podcasts available onli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eaf604"/>
                </a:solidFill>
                <a:latin typeface="Trebuchet MS"/>
              </a:rPr>
              <a:t>Over 2 million Google searches on the wor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eaf604"/>
                </a:solidFill>
                <a:latin typeface="Trebuchet MS"/>
              </a:rPr>
              <a:t>2005 Apple creates a podcast directory in iTun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eaf604"/>
                </a:solidFill>
                <a:latin typeface="Trebuchet MS"/>
              </a:rPr>
              <a:t>Many podcast aggregator sites and directories appe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09680" y="457200"/>
            <a:ext cx="5943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f604"/>
                </a:solidFill>
                <a:latin typeface="Times New Roman"/>
              </a:rPr>
              <a:t>The Penny Pincher’s Podcasting Guide</a:t>
            </a:r>
            <a:r>
              <a:rPr b="1" lang="en-US" sz="3600" spc="-1" strike="noStrike">
                <a:solidFill>
                  <a:srgbClr val="eaf604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1981080"/>
            <a:ext cx="79246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Take a summer ManACE Course to learn how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Purchase low cost interface tools to get started– microphones, et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Use free tools from the Internet to create your podcast such as Audac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Use a free site such as Podomatic to host your podcas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Spread the word about your podcast using a Blog or Wiki (both free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447920" y="533520"/>
            <a:ext cx="746748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828800" y="685800"/>
            <a:ext cx="6477120" cy="55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f604"/>
                </a:solidFill>
                <a:latin typeface="Times New Roman"/>
              </a:rPr>
              <a:t>In conclusion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Podcasting fits in many curricular areas at many level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Podcasting is easy and requires minimum skills … learning the editing software is the most difficult part (and there’s a summer ManACE course to teach you that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Podcasting is fun, motivating and contagious. Once the students start they’ll want to do mor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If its worth saying once, it’s worth saying again with podcasting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600200" y="685800"/>
            <a:ext cx="701028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f604"/>
                </a:solidFill>
                <a:latin typeface="Trebuchet MS"/>
              </a:rPr>
              <a:t>Creating a Podcast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f604"/>
                </a:solidFill>
                <a:latin typeface="Trebuchet MS"/>
              </a:rPr>
              <a:t>Items you need for podcast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800" spc="-1" strike="noStrike">
                <a:solidFill>
                  <a:srgbClr val="eaf604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eaf604"/>
                </a:solidFill>
                <a:latin typeface="Trebuchet MS"/>
              </a:rPr>
              <a:t>icropho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800" spc="-1" strike="noStrike">
                <a:solidFill>
                  <a:srgbClr val="eaf604"/>
                </a:solidFill>
                <a:latin typeface="Trebuchet MS"/>
              </a:rPr>
              <a:t>Computer</a:t>
            </a:r>
            <a:r>
              <a:rPr b="1" lang="en-US" sz="2800" spc="-1" strike="noStrike">
                <a:solidFill>
                  <a:srgbClr val="eaf60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af604"/>
                </a:solidFill>
                <a:latin typeface="Trebuchet MS"/>
              </a:rPr>
              <a:t>or digital record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800" spc="-1" strike="noStrike">
                <a:solidFill>
                  <a:srgbClr val="eaf604"/>
                </a:solidFill>
                <a:latin typeface="Trebuchet MS"/>
              </a:rPr>
              <a:t>Audio-editing softwa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800" spc="-1" strike="noStrike">
                <a:solidFill>
                  <a:srgbClr val="eaf604"/>
                </a:solidFill>
                <a:latin typeface="Trebuchet MS"/>
              </a:rPr>
              <a:t>Podsafe music or sound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23880" y="11430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f604"/>
                </a:solidFill>
                <a:latin typeface="Times New Roman"/>
              </a:rPr>
              <a:t>Microphon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2300400" cy="2001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791320" y="1752480"/>
            <a:ext cx="1847880" cy="1847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505320" y="4343400"/>
            <a:ext cx="1846080" cy="2133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6172200" y="41148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4419720" y="380880"/>
            <a:ext cx="10382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47920" y="83808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f604"/>
                </a:solidFill>
                <a:latin typeface="Times New Roman"/>
              </a:rPr>
              <a:t>Computer or Digital Recorder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2125440" cy="2362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876920" y="1676520"/>
            <a:ext cx="2447640" cy="2184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581280" y="43434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600200" y="609480"/>
            <a:ext cx="632448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f604"/>
                </a:solidFill>
                <a:latin typeface="Times New Roman"/>
              </a:rPr>
              <a:t>Podsafe Music Source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f60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eaf604"/>
                </a:solidFill>
                <a:latin typeface="Times New Roman"/>
              </a:rPr>
              <a:t>CTC Music Mixer 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f60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eaf604"/>
                </a:solidFill>
                <a:latin typeface="Times New Roman"/>
              </a:rPr>
              <a:t>Magnatune.com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f60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eaf604"/>
                </a:solidFill>
                <a:latin typeface="Times New Roman"/>
              </a:rPr>
              <a:t>Jamend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f60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eaf604"/>
                </a:solidFill>
                <a:latin typeface="Times New Roman"/>
              </a:rPr>
              <a:t>Wikimedi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23880" y="457200"/>
            <a:ext cx="723924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f604"/>
                </a:solidFill>
                <a:latin typeface="Trebuchet MS"/>
              </a:rPr>
              <a:t>Audio Editing Software (PC and Mac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eaf604"/>
                </a:solidFill>
                <a:latin typeface="Trebuchet MS"/>
              </a:rPr>
              <a:t>Audacity -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2400" spc="-1" strike="noStrike" u="sng">
                <a:solidFill>
                  <a:srgbClr val="ff33cc"/>
                </a:solidFill>
                <a:uFillTx/>
                <a:latin typeface="Trebuchet MS"/>
                <a:hlinkClick r:id="rId1"/>
              </a:rPr>
              <a:t>http://audacity.sourceforge.ne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523880" y="1676520"/>
            <a:ext cx="716292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23880" y="685800"/>
            <a:ext cx="7086600" cy="49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f604"/>
                </a:solidFill>
                <a:latin typeface="Trebuchet MS"/>
              </a:rPr>
              <a:t>Steps in Creating a Podcast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f604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eaf604"/>
                </a:solidFill>
                <a:latin typeface="Trebuchet MS"/>
              </a:rPr>
              <a:t>Record your podcas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eaf604"/>
                </a:solidFill>
                <a:latin typeface="Trebuchet MS"/>
              </a:rPr>
              <a:t>Move the audio file into an audio edi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eaf604"/>
                </a:solidFill>
                <a:latin typeface="Trebuchet MS"/>
              </a:rPr>
              <a:t>Add the introduction and ending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eaf604"/>
                </a:solidFill>
                <a:latin typeface="Trebuchet MS"/>
              </a:rPr>
              <a:t>Save file as an MP3 fi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eaf604"/>
                </a:solidFill>
                <a:latin typeface="Trebuchet MS"/>
              </a:rPr>
              <a:t>Upload to a Web site*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eaf604"/>
                </a:solidFill>
                <a:latin typeface="Trebuchet MS"/>
              </a:rPr>
              <a:t>Create your podcast newsfeed (blog site)*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eaf604"/>
                </a:solidFill>
                <a:latin typeface="Trebuchet MS"/>
              </a:rPr>
              <a:t>Add your podcast to directories*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71600" y="1752480"/>
            <a:ext cx="73152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f604"/>
                </a:solidFill>
                <a:latin typeface="Trebuchet MS"/>
              </a:rPr>
              <a:t>Why Use Podcast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f604"/>
                </a:solidFill>
                <a:latin typeface="Trebuchet MS"/>
              </a:rPr>
              <a:t>in the K-12 Classroom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7T00:56:34Z</dcterms:created>
  <dc:creator>Mr Evans</dc:creator>
  <dc:description/>
  <dc:language>en-US</dc:language>
  <cp:lastModifiedBy>Mr Evans</cp:lastModifiedBy>
  <dcterms:modified xsi:type="dcterms:W3CDTF">2007-06-05T19:17:19Z</dcterms:modified>
  <cp:revision>12</cp:revision>
  <dc:subject/>
  <dc:title>Podcasting  Across the Curriculum MANACE  AGM Presentation</dc:title>
</cp:coreProperties>
</file>