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606-ABA8-435B-B59F-6E62DE3C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6AE-4D98-45DB-BB89-59C5ED6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7ED-07A3-4AC7-9975-311CA684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1A4-33B2-49BF-9071-D28765B4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4350-DCD9-4DCD-AE03-60E6719D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96F8-1AD4-45EA-B206-C77A5284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FA7B-C4BB-4A90-8D74-9416C916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459B-9365-48E6-8B03-1EC8B7F8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6681-117F-417F-91AD-C3FD3040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4775-324F-476A-86C0-583B6621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7D8B-F4F2-4BDD-91A0-F9489191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D10-D130-411D-9B27-B2C160BC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BB83-D89A-4DD1-A22C-EE43284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2E96-86ED-4523-A60A-9312EA79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40C6-90E8-4B3D-95A4-BA827C8E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FB74-373A-4DED-9A66-E07C50FA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1AA4-A2D7-4436-8A17-62A0B782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632-A996-4FBA-990E-CAE2A46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C3C-9E8D-4FD9-A92F-0E77C2B0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1B5-6670-4209-B1E4-74C067FC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F00-ADCB-4CD9-8CB0-C94D76FE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158-EC31-43FD-A768-B2FBE049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3EB-2DD1-4103-9896-F7D06CF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533-2155-4161-9560-6A972FE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495D-AF88-4D25-82F3-8C404B748AC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3C4D-DD52-46E3-B292-4229D41233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udacity.sourceforge.net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Podcasting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cross the Curriculum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MANACE </a:t>
            </a:r>
            <a:br>
              <a:rPr sz="4400"/>
            </a:br>
            <a:r>
              <a:rPr b="0" lang="en-US" sz="4400" spc="-1" strike="noStrike">
                <a:solidFill>
                  <a:srgbClr val="eaf604"/>
                </a:solidFill>
                <a:latin typeface="Times New Roman"/>
              </a:rPr>
              <a:t>AGM Present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Presen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ohn Ev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604"/>
                </a:solidFill>
                <a:latin typeface="Times New Roman"/>
              </a:rPr>
              <a:t>June 5, 200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371600"/>
            <a:ext cx="7848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Promotes good writing, speaking, and communicat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form of assess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Multi-sens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nother media to communicate wi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Students are using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uthentic activity going beyond the wa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Good motiv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Application of technology (Warlic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hy Podcasting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8077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ing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 fluenc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reading, speaking, writing, and listening skil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acquire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integrate/infuse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technology skills and appl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523880"/>
            <a:ext cx="73911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learn new ways to communicate knowled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positive academic self-concep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sense of audience and purpose when reading, writing, and spea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develop a student ownership of langu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f604"/>
                </a:solidFill>
                <a:latin typeface="TimesNewRomanPSMT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NewRomanPSMT"/>
              </a:rPr>
              <a:t>To encourage active participation and learner-centered foc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4800" y="457200"/>
            <a:ext cx="85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NewRomanPS-BoldMT"/>
              </a:rPr>
              <a:t>Curriculum Applications of Podcasts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adio%20stations-0_1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461360" cy="493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2485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f604"/>
                </a:solidFill>
                <a:latin typeface="Times New Roman"/>
              </a:rPr>
              <a:t>http://chatt.hdsb.ca/~magps/boylit/Podcasting%20in%20Edu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K –12 Podcasting Ideas - Radio S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Podcasting in the </a:t>
            </a:r>
            <a:br>
              <a:rPr sz="3600"/>
            </a:b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Literacy with ICT Continuum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3436920" cy="43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81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Podcatching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in </a:t>
            </a:r>
            <a:br>
              <a:rPr sz="6000"/>
            </a:br>
            <a:r>
              <a:rPr b="1" lang="en-US" sz="6000" spc="-1" strike="noStrike">
                <a:solidFill>
                  <a:srgbClr val="eaf604"/>
                </a:solidFill>
                <a:latin typeface="Times New Roman"/>
              </a:rPr>
              <a:t>Educ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057400" y="457200"/>
            <a:ext cx="685800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Many Educational Podcasts can fit into your existing curricu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earn a language – French, Itali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Listen to a story – Aesop’s Fables, Sherlock Holmes, StoryN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Ed Tech – SmartBoar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anadian Events – CBC Podcas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Current Events – 60 Minute Podcast, CN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Free Professional Develop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Moving at the Speed of Creativity – Wes Fry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Connect Learning – David Warli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eaf60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eaf604"/>
                </a:solidFill>
                <a:latin typeface="Times New Roman"/>
              </a:rPr>
              <a:t>edublogs.com – Ewan McInto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6680" y="663480"/>
          <a:ext cx="7920000" cy="555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63480"/>
                    <a:ext cx="7920000" cy="55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96080" cy="57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990720"/>
            <a:ext cx="731520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History of Podcasting </a:t>
            </a:r>
            <a:r>
              <a:rPr b="1" lang="en-US" sz="1400" spc="-1" strike="noStrike">
                <a:solidFill>
                  <a:srgbClr val="eaf604"/>
                </a:solidFill>
                <a:latin typeface="Trebuchet MS"/>
              </a:rPr>
              <a:t>from Kathy Schrock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1 Adam Curry, Tristan Louis, Dave Winer Collaborated using RSS techn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3 Stephen Downes used RSS to aggregate audio 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4 Articles about podcasts available on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Over 2 million Google searches on the wo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2005 Apple creates a podcast directory in iTun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any podcast aggregator sites and directories app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09680" y="4572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imes New Roman"/>
              </a:rPr>
              <a:t>The Penny Pincher’s Podcasting Guide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Take a summer ManACE Course to learn ho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urchase low cost interface tools to get started– microphones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free tools from the Internet to create your podcast such as Audac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Use a free site such as Podomatic to host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Spread the word about your podcast using a Blog or Wiki (both fre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685800"/>
            <a:ext cx="647712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f604"/>
                </a:solidFill>
                <a:latin typeface="Times New Roman"/>
              </a:rPr>
              <a:t>In conclusion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fits in many curricular areas at many level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easy and requires minimum skills … learning the editing software is the most difficult part (and there’s a summer ManACE course to teach you that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Podcasting is fun, motivating and contagious. Once the students start they’ll want to do mo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If its worth saying once, it’s worth saying again with podcast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0200" y="685800"/>
            <a:ext cx="701028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604"/>
                </a:solidFill>
                <a:latin typeface="Trebuchet MS"/>
              </a:rPr>
              <a:t>Creating a Podca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tems you need for podcas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icroph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Computer</a:t>
            </a: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or digital recor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Audio-editing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eaf604"/>
                </a:solidFill>
                <a:latin typeface="Trebuchet MS"/>
              </a:rPr>
              <a:t>Podsafe music or sou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icrophon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2300400" cy="200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184608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419720" y="380880"/>
            <a:ext cx="1038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838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omputer or Digital Recor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212544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2447640" cy="2184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00200" y="609480"/>
            <a:ext cx="63244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f604"/>
                </a:solidFill>
                <a:latin typeface="Times New Roman"/>
              </a:rPr>
              <a:t>Podsafe Music Sourc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CTC Music Mixer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Magnatune.com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Jamend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buClr>
                <a:srgbClr val="eaf6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f604"/>
                </a:solidFill>
                <a:latin typeface="Times New Roman"/>
              </a:rPr>
              <a:t>Wikime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457200"/>
            <a:ext cx="72392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io Editing Software (PC and Ma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eaf604"/>
                </a:solidFill>
                <a:latin typeface="Trebuchet MS"/>
              </a:rPr>
              <a:t>Audacity -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rebuchet MS"/>
                <a:hlinkClick r:id="rId1"/>
              </a:rPr>
              <a:t>http://audacity.sourceforge.n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716292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685800"/>
            <a:ext cx="708660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f604"/>
                </a:solidFill>
                <a:latin typeface="Trebuchet MS"/>
              </a:rPr>
              <a:t>Steps in Creating a Podcas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f604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Record your podca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Move the audio file into an audio edi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the introduction and end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Save file as an MP3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Upload to a Web site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Create your podcast newsfeed (blog site)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f604"/>
                </a:solidFill>
                <a:latin typeface="Times New Roman"/>
              </a:rPr>
              <a:t>• </a:t>
            </a:r>
            <a:r>
              <a:rPr b="1" lang="en-US" sz="2400" spc="-1" strike="noStrike">
                <a:solidFill>
                  <a:srgbClr val="eaf604"/>
                </a:solidFill>
                <a:latin typeface="Trebuchet MS"/>
              </a:rPr>
              <a:t>Add your podcast to directories*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175248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Why Use Podcas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f604"/>
                </a:solidFill>
                <a:latin typeface="Trebuchet MS"/>
              </a:rPr>
              <a:t>in the K-12 Classro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56:34Z</dcterms:created>
  <dc:creator>Mr Evans</dc:creator>
  <dc:description/>
  <dc:language>en-US</dc:language>
  <cp:lastModifiedBy>Mr Evans</cp:lastModifiedBy>
  <dcterms:modified xsi:type="dcterms:W3CDTF">2007-06-05T19:17:19Z</dcterms:modified>
  <cp:revision>12</cp:revision>
  <dc:subject/>
  <dc:title>Podcasting  Across the Curriculum MANACE  AGM Presentation</dc:title>
</cp:coreProperties>
</file>